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C43D-0547-4A11-B543-AAB9E243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7D80-94FC-410F-A07D-AC19AE2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EC00-FCDC-41F6-B94F-6C0E23A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76A9-94E4-448F-849A-8CAC5DBD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24E-FA8B-4A30-BAD6-4783FB69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A7AB-50F8-4838-8EF6-D3A21DD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14F-C9D7-40B0-B093-B93BE0B1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1360-40E3-438B-8A62-4EFB7C7F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F670-500F-4423-980F-CE13A98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CFF6-2B64-4A25-BF71-61FBB8D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8B6-D929-4E13-ACA1-8EF554E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93E9-E751-4CA5-B0D9-FEEDBF4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4E5F-DC5B-4CD2-B412-3AD4E5A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A5AE-E667-4C8B-82AB-92A284B4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06BF-0F1E-450E-8183-A6D2D3B9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2D0-2013-4F5D-BA86-DBC3E62A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87B-5410-4537-AF24-B8E0E79D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4BAD-9AE7-46D8-B0DF-2B4D951A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E7BA-9862-4CF4-94C0-FA903888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DA23-1144-429E-811D-06AAE00D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320A2-3AFF-4929-8DE6-B956C121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EBFC-BBF3-4D6C-94C5-56C3D12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6148-9F42-4143-85E7-2FDD9C1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1A1A-5ACF-4AD0-A2E4-03DBF34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227-B73E-4259-82B2-C5CB457CB0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6B0-4315-4F79-A665-C87BE27BDA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Lucida Bright"/>
              </a:rPr>
              <a:t>El presente perfect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36655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02" name="Picture 6" descr="MCj03914620000[1]"/>
          <p:cNvPicPr/>
          <p:nvPr/>
        </p:nvPicPr>
        <p:blipFill>
          <a:blip r:embed="rId1"/>
          <a:stretch/>
        </p:blipFill>
        <p:spPr>
          <a:xfrm>
            <a:off x="3660840" y="380880"/>
            <a:ext cx="182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with the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t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participle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w you tr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18"/>
          <p:cNvSpPr/>
          <p:nvPr/>
        </p:nvSpPr>
        <p:spPr>
          <a:xfrm>
            <a:off x="609480" y="13716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On a sheet of paper, see if you can figure out the present perfect forms for the verb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habl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8"/>
          <p:cNvSpPr/>
          <p:nvPr/>
        </p:nvSpPr>
        <p:spPr>
          <a:xfrm>
            <a:off x="60948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28" descr="MCPE03021_0000[1]"/>
          <p:cNvPicPr/>
          <p:nvPr/>
        </p:nvPicPr>
        <p:blipFill>
          <a:blip r:embed="rId1"/>
          <a:stretch/>
        </p:blipFill>
        <p:spPr>
          <a:xfrm>
            <a:off x="7086600" y="609480"/>
            <a:ext cx="153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et’s try anothe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w see if you can form the present perfect forms of the verb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toma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 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go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w let’s try an </a:t>
            </a:r>
            <a:r>
              <a:rPr b="1" i="1" lang="es-ES" sz="4400" spc="-1" strike="noStrike">
                <a:solidFill>
                  <a:srgbClr val="e5e5ff"/>
                </a:solidFill>
                <a:latin typeface="Garamond"/>
              </a:rPr>
              <a:t>–er 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er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e if you can come up with the present perfect forms for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come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et’s try another one…see if you can come up with the present perfect tense of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y of you may have assumed tha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d an irregular past participle.  Afterall, i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o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have an irregula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esent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participle.  Bu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is actually regular in this tense.  Here are some verbs tha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r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irregular in the past partici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Qué es el presente perfec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The present perfect is formed by combining a helping verb (“have” or “has”) with the past participl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t exactly irregular b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e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bs whose stems end in a vowel have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re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re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e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le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oí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o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í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e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ra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Irregula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he following verbs have irregular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bi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u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bier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cu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escubi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crib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cri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n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ue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mp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o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i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olv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8" descr="MPj04050260000[1]"/>
          <p:cNvPicPr/>
          <p:nvPr/>
        </p:nvPicPr>
        <p:blipFill>
          <a:blip r:embed="rId1"/>
          <a:stretch/>
        </p:blipFill>
        <p:spPr>
          <a:xfrm>
            <a:off x="23623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MPj04050260000[1]"/>
          <p:cNvPicPr/>
          <p:nvPr/>
        </p:nvPicPr>
        <p:blipFill>
          <a:blip r:embed="rId2"/>
          <a:stretch/>
        </p:blipFill>
        <p:spPr>
          <a:xfrm>
            <a:off x="16765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Pj04050260000[1]"/>
          <p:cNvPicPr/>
          <p:nvPr/>
        </p:nvPicPr>
        <p:blipFill>
          <a:blip r:embed="rId3"/>
          <a:stretch/>
        </p:blipFill>
        <p:spPr>
          <a:xfrm>
            <a:off x="9907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MPj04050280000[1]"/>
          <p:cNvPicPr/>
          <p:nvPr/>
        </p:nvPicPr>
        <p:blipFill>
          <a:blip r:embed="rId4"/>
          <a:stretch/>
        </p:blipFill>
        <p:spPr>
          <a:xfrm>
            <a:off x="6172200" y="533520"/>
            <a:ext cx="16765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re irregula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hese verbs have irregular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ch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c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i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c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he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5" descr="hechoamano"/>
          <p:cNvPicPr/>
          <p:nvPr/>
        </p:nvPicPr>
        <p:blipFill>
          <a:blip r:embed="rId1"/>
          <a:stretch/>
        </p:blipFill>
        <p:spPr>
          <a:xfrm>
            <a:off x="4952880" y="2438280"/>
            <a:ext cx="291492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¡Practicamos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e if you can form the correct present perfect using the subject and verb g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odelo:  yo / decidir →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He decidi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ella / abrir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a abier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Marta y yo / toca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emos tocado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Gonzalo / crec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a crecido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ú y tus amigos / reí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reído / habéis re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s padres / ha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he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us abuelos / cubr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cubier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gelio y Ramón / escrib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escri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or ejemplo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or examp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ve played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tenni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s sung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at wedding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ve flown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in a pla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6" descr="MPj04031090000[1]"/>
          <p:cNvPicPr/>
          <p:nvPr/>
        </p:nvPicPr>
        <p:blipFill>
          <a:blip r:embed="rId1"/>
          <a:stretch/>
        </p:blipFill>
        <p:spPr>
          <a:xfrm>
            <a:off x="5029200" y="4343400"/>
            <a:ext cx="3276720" cy="2192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e82e4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 in ing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To form the present participle we combine the helping verb “have/has” with a past participl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For example, “I </a:t>
            </a:r>
            <a:r>
              <a:rPr b="0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have been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 a lifeguard.”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I” is the subje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have” is the  helping verb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been” is the past participl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MCj03341320000[1]"/>
          <p:cNvPicPr/>
          <p:nvPr/>
        </p:nvPicPr>
        <p:blipFill>
          <a:blip r:embed="rId1"/>
          <a:stretch/>
        </p:blipFill>
        <p:spPr>
          <a:xfrm>
            <a:off x="5791320" y="3505320"/>
            <a:ext cx="2341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 en españ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 Spanish we form the present participle by combining the present tense of the verb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abe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the helping verb, o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l verbo auxili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with a past partici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2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For example: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7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Yo </a:t>
            </a:r>
            <a:r>
              <a:rPr b="1" lang="es-ES" sz="2900" spc="-1" strike="noStrike">
                <a:solidFill>
                  <a:srgbClr val="ffffff"/>
                </a:solidFill>
                <a:latin typeface="Garamond"/>
              </a:rPr>
              <a:t>he bailado</a:t>
            </a: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2700" spc="-1" strike="noStrike">
                <a:solidFill>
                  <a:srgbClr val="ffffff"/>
                </a:solidFill>
                <a:latin typeface="Franklin Gothic Book"/>
              </a:rPr>
              <a:t>I have danced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7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Nosotros no </a:t>
            </a:r>
            <a:r>
              <a:rPr b="1" lang="es-ES" sz="2900" spc="-1" strike="noStrike">
                <a:solidFill>
                  <a:srgbClr val="ffffff"/>
                </a:solidFill>
                <a:latin typeface="Garamond"/>
              </a:rPr>
              <a:t>hemos estudiado</a:t>
            </a: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 para el exame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2700" spc="-1" strike="noStrike">
                <a:solidFill>
                  <a:srgbClr val="ffffff"/>
                </a:solidFill>
                <a:latin typeface="Franklin Gothic Book"/>
              </a:rPr>
              <a:t>We haven’t studied for the test.</a:t>
            </a:r>
            <a:r>
              <a:rPr b="0" i="1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MCj00787660000[1]"/>
          <p:cNvPicPr/>
          <p:nvPr/>
        </p:nvPicPr>
        <p:blipFill>
          <a:blip r:embed="rId1"/>
          <a:stretch/>
        </p:blipFill>
        <p:spPr>
          <a:xfrm>
            <a:off x="4267080" y="3048120"/>
            <a:ext cx="18846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The present tense of </a:t>
            </a:r>
            <a:r>
              <a:rPr b="1" i="1" lang="es-ES" sz="4400" spc="-1" strike="noStrike">
                <a:solidFill>
                  <a:srgbClr val="e5e5ff"/>
                </a:solidFill>
                <a:latin typeface="Garamond"/>
              </a:rPr>
              <a:t>hab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Remembe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How to form the past participl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 –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verbs, take the stem of the verb and add –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xample: comprar →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compr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e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verbs, take the stem of the verb and ad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xample: tener →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ten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Here are the present perfect forms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estudi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As you can see I have combined the present forms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haber 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(the helping verb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21:14:57Z</dcterms:created>
  <dc:creator>Britta Smith</dc:creator>
  <dc:description/>
  <dc:language>en-US</dc:language>
  <cp:lastModifiedBy>admin</cp:lastModifiedBy>
  <dcterms:modified xsi:type="dcterms:W3CDTF">2012-01-25T14:09:28Z</dcterms:modified>
  <cp:revision>48</cp:revision>
  <dc:subject/>
  <dc:title>El presente perfecto</dc:title>
</cp:coreProperties>
</file>